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35F-3236-41AB-B010-9D7EC695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719-9D01-4543-A230-0160DE23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482-4600-4F7D-A0B4-110FF0B6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69E-86F6-45EE-82F7-69E7F73F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28B-2073-4409-89D5-B8320DDC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AF0-3107-4777-88A7-2801B63E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C34-DB1C-4338-A95E-7E383EA1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885-823E-4B9D-B1B2-CB469F03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422-599D-417A-8F5F-91F90C44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33D-8708-462C-9D79-75D4501A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B93-CE04-4759-8C95-02B19AE7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BFE-7C2A-45A4-9353-CA58BA94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480B-D9C7-416E-BC5B-9FFDEDAF1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236520"/>
            <a:ext cx="883944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39600"/>
            <a:ext cx="883944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27160"/>
            <a:ext cx="899172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21:07:34Z</dcterms:created>
  <dc:creator>ASD</dc:creator>
  <dc:description/>
  <dc:language>en-US</dc:language>
  <cp:lastModifiedBy>ASD</cp:lastModifiedBy>
  <dcterms:modified xsi:type="dcterms:W3CDTF">2010-06-23T21:07:48Z</dcterms:modified>
  <cp:revision>1</cp:revision>
  <dc:subject/>
  <dc:title>Slide 1</dc:title>
</cp:coreProperties>
</file>